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7D8-ACD0-4AB3-A7B7-6D4BE5CC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F95-82FA-453E-AC85-05ED4BDA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760-29BD-4DBD-8ABB-43BAD63F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ABA-5E7D-47DE-A910-F296D4C5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8597-589C-42DD-941F-5B999477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2CBE-06B7-4235-BA8C-683EE19A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1EBE-6BAD-4D86-9B25-A19D66A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E433-2034-4F1A-BFA2-9861E51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144-34B4-4751-B728-2AF878D7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0AF7-C701-4146-91D7-ACF4248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F95-C219-4724-A3FC-ED24626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C3B-DF2D-45D1-A562-6BD4744D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61D1-CEA1-46A9-9110-C0F18AA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89BC-9616-4C36-B7A7-A253551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17CF-412C-469A-B6EC-E1A042B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9238-6BC8-4427-9807-EE192F1D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10D3-33FB-451E-A6A8-D1A61582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E9041-EFAB-4763-8EC9-7AB62083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68695-A408-4B9F-AD87-1BC7A0D2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502C4-1750-4D7F-91D9-4F53714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323F2-EB7A-441E-98B4-E8865EE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3C212-6221-4124-9A5B-532C1381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A77-A205-49BF-9BE5-98ADBDE3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97C22-9878-43DB-9320-AA662E2C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9FDAB-DC3A-40AB-B349-C6F16BF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91EEA-EACA-43D9-BAC2-9333942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CF6A3-86D4-4F45-8DF3-956C5EA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F4A40-FA26-4490-BBE1-0084700A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4195C-AEA2-492E-8C69-CC6F0EB7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78EA7-0B7E-4260-8735-61079B85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7A73E-0012-4A90-AE04-E198F088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A5D8B-F106-4246-8654-9538A4B0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407AF-1692-4992-886B-AC18374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CBC-A8B5-48FD-B1DD-D569AD32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AE380-9CE0-4903-8E0F-9186DA3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F7837-5B48-4284-920D-2B5F75F9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D8BCC-B6FF-426C-8AF0-391645C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2087D-390E-4639-AA9E-6AA3F0C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30ECC-5860-4B9D-A561-FCF679F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E1CCD-4DE5-4D63-BE83-12484E8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9DFCF-D604-475F-AF6C-D4A13AD1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CD992-66DF-4D4D-9ED4-432AAD7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BBE6C-7C4F-455A-B703-AB1FB79C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5396D-0269-421A-9DFE-64657A27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0E0-C7DC-40CD-9393-11708886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E4A03-A1B9-4586-9EAD-C2C50DE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69D53-FAA3-425E-8625-2D730DAA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B102B-A498-431E-A8FE-0CA398BC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2AC06-74E2-4211-879F-99F7951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8F098-E16B-4748-8F45-249DA454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3FA31-E6AC-4B49-8724-33C0742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4036A-5B61-4332-8969-56B4738F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4F18E-3D7E-45AB-AD09-99A8CE2E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2DA46-3F67-4643-BAB6-F2746E75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FA6A1-A437-416F-B19F-53BD0D45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E70-8CBD-454B-8C06-8FE0058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5ADA6-5938-400E-8288-F8C654E4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AE23D-AA62-43E5-8CE7-A0B3593E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FE04-716C-45EA-BC13-6DF4EB7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EADC-2613-4E37-8BE9-B52BA9E5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229A-1D45-415A-87DE-1F34AA30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DC35-BADC-4D05-A4DD-700C406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83D31-5AE1-4302-899E-47C472E8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08746-99FB-4F0D-9BE0-5805C60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D6F2-7773-4284-90D1-E110EAE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1D48-51DC-4C8A-8906-DC3569D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E9F-3CCD-4A11-ABFB-E9026679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B6B6-B32F-4419-B73A-8F902680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5861-2C20-4C69-956E-0A1E97C7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5EA40-5A3C-42F5-AEC2-8EC16ED0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54B0B-2CD7-4383-9F3E-1FADD72A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9340F-126C-4FE8-9A1F-1F1172F1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0A448-323B-475F-9A54-0DA765B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8D1FF-4F41-42AF-B1E0-FFED392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9BF51-5112-405D-9047-E232979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8BB4A-AB95-491D-8088-B6009BD1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A7616-2BC4-4F66-8BA1-D75EFE2E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4EE-7650-46AD-85A0-C6B27F7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16413-FFC6-4076-8180-2EA8CD88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6EC80-A823-4175-8EF8-C1DE27A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808BE-826D-4684-BFE5-ED1E9A7C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3F8D9-C39D-4AB4-91A1-8FE40F34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3FD8E-0B70-4518-A353-C177C080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770D-0798-4636-BA4D-CAB1E7A7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0DC4-57BC-48C2-A5EB-CEED8B2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DB579-C75E-492C-9963-7DD90D0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F3D0B-AF23-4D1A-84B0-404AF355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D005-49D9-4077-ADC5-3B2010F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682-AA91-4135-BAE3-82E2702E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AAAB-3C64-433D-9B38-9FAF52A6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244F-CFA5-4B58-A92C-FD67CEE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9FB2A-BE1E-4FF3-AB0D-339F798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81B3-309C-49EE-BFBD-E29C387A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FF85-793B-45C2-98B1-DBB831D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2729B-A239-47AF-8528-E6460455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CE75B-32E0-4FD4-8F26-ECD7E7F2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F7EA-BD02-4FE6-9B38-A44D8A03DBC2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C978-C383-4158-BECF-1ED8B1F3FE44}" type="slidenum">
              <a:rPr b="1" lang="pl-P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638-D6E5-48B3-91BA-3B90C690888C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D6B-CC05-4F45-BAA2-E5A8B93962B6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38E-87F8-4A96-AF45-01B63972CA2B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827-4E29-48CD-9FE6-5B81A422BD36}" type="slidenum">
              <a:rPr b="1" lang="pl-P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rostokąt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rostokąt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E07-9B09-40CC-AB5D-40C317734E82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rostokąt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86C-AAB7-4585-9D9C-A6D4755F8D78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357720"/>
            <a:ext cx="82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70c0"/>
                </a:solidFill>
                <a:latin typeface="Tw Cen MT"/>
              </a:rPr>
              <a:t>Co to jest równanie?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ff"/>
                </a:solidFill>
                <a:latin typeface="Tw Cen MT"/>
              </a:rPr>
              <a:t>Równanie, niewiadoma</a:t>
            </a:r>
            <a:r>
              <a:rPr b="0" lang="pl-PL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WordArt 19"/>
          <p:cNvSpPr txBox="1"/>
          <p:nvPr/>
        </p:nvSpPr>
        <p:spPr>
          <a:xfrm rot="20692800">
            <a:off x="394920" y="620280"/>
            <a:ext cx="25192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x - 4 = 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WordArt 20"/>
          <p:cNvSpPr txBox="1"/>
          <p:nvPr/>
        </p:nvSpPr>
        <p:spPr>
          <a:xfrm rot="304200">
            <a:off x="7308720" y="476280"/>
            <a:ext cx="159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( x - 1 ) = 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WordArt 21"/>
          <p:cNvSpPr txBox="1"/>
          <p:nvPr/>
        </p:nvSpPr>
        <p:spPr>
          <a:xfrm rot="304200">
            <a:off x="3564000" y="836280"/>
            <a:ext cx="2022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7b615"/>
                  </a:solidFill>
                  <a:miter/>
                </a:ln>
                <a:solidFill>
                  <a:srgbClr val="ed8b1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x + 2y = 34</a:t>
            </a:r>
            <a:endParaRPr b="0" lang="en-US" sz="1800" spc="1" strike="noStrike">
              <a:ln w="19080">
                <a:solidFill>
                  <a:srgbClr val="f7b615"/>
                </a:solidFill>
                <a:miter/>
              </a:ln>
              <a:solidFill>
                <a:srgbClr val="ed8b1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WordArt 22"/>
          <p:cNvSpPr txBox="1"/>
          <p:nvPr/>
        </p:nvSpPr>
        <p:spPr>
          <a:xfrm rot="19245000">
            <a:off x="1763280" y="2204640"/>
            <a:ext cx="159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ebddc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x + z = 12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ebddc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WordArt 24"/>
          <p:cNvSpPr txBox="1"/>
          <p:nvPr/>
        </p:nvSpPr>
        <p:spPr>
          <a:xfrm rot="20692800">
            <a:off x="5076360" y="1699920"/>
            <a:ext cx="244800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ebddc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x - 4 + y = 7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ebddc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2" descr="C:\Users\Ania\AppData\Local\Microsoft\Windows\Temporary Internet Files\Content.IE5\SI614T7F\MC900356437[1].wmf"/>
          <p:cNvPicPr/>
          <p:nvPr/>
        </p:nvPicPr>
        <p:blipFill>
          <a:blip r:embed="rId1"/>
          <a:stretch/>
        </p:blipFill>
        <p:spPr>
          <a:xfrm>
            <a:off x="4905360" y="1687680"/>
            <a:ext cx="3210120" cy="2684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775f55"/>
                </a:solidFill>
                <a:latin typeface="Tw Cen MT"/>
              </a:rPr>
              <a:t>Co to jest równanie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2698920" y="575136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fdf7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2773440" y="220500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ee202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 - 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517760" y="310500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709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6875640" y="452592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5 (x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4795920" y="503064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a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647640" y="1690560"/>
            <a:ext cx="1943280" cy="720720"/>
          </a:xfrm>
          <a:prstGeom prst="roundRect">
            <a:avLst>
              <a:gd name="adj" fmla="val 16667"/>
            </a:avLst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"/>
          <p:cNvSpPr/>
          <p:nvPr/>
        </p:nvSpPr>
        <p:spPr>
          <a:xfrm>
            <a:off x="755640" y="4379760"/>
            <a:ext cx="1943280" cy="720720"/>
          </a:xfrm>
          <a:prstGeom prst="roundRect">
            <a:avLst>
              <a:gd name="adj" fmla="val 16667"/>
            </a:avLst>
          </a:prstGeom>
          <a:solidFill>
            <a:srgbClr val="f7b6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upa 2"/>
          <p:cNvGrpSpPr/>
          <p:nvPr/>
        </p:nvGrpSpPr>
        <p:grpSpPr>
          <a:xfrm>
            <a:off x="183600" y="5852880"/>
            <a:ext cx="2304720" cy="889200"/>
            <a:chOff x="183600" y="5852880"/>
            <a:chExt cx="2304720" cy="889200"/>
          </a:xfrm>
        </p:grpSpPr>
        <p:sp>
          <p:nvSpPr>
            <p:cNvPr id="367" name="AutoShape 16"/>
            <p:cNvSpPr/>
            <p:nvPr/>
          </p:nvSpPr>
          <p:spPr>
            <a:xfrm>
              <a:off x="1078200" y="6111720"/>
              <a:ext cx="540360" cy="6303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7"/>
            <p:cNvSpPr/>
            <p:nvPr/>
          </p:nvSpPr>
          <p:spPr>
            <a:xfrm rot="21096600">
              <a:off x="177480" y="6021360"/>
              <a:ext cx="2316240" cy="90360"/>
            </a:xfrm>
            <a:prstGeom prst="flowChartTerminator">
              <a:avLst/>
            </a:prstGeom>
            <a:solidFill>
              <a:srgbClr val="59f568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20" descr="C:\Users\Ania\AppData\Local\Microsoft\Windows\Temporary Internet Files\Content.IE5\FZ4DAB55\MC900435835[1].wmf"/>
          <p:cNvPicPr/>
          <p:nvPr/>
        </p:nvPicPr>
        <p:blipFill>
          <a:blip r:embed="rId2"/>
          <a:stretch/>
        </p:blipFill>
        <p:spPr>
          <a:xfrm>
            <a:off x="7236000" y="5560920"/>
            <a:ext cx="1731960" cy="1157400"/>
          </a:xfrm>
          <a:prstGeom prst="rect">
            <a:avLst/>
          </a:prstGeom>
          <a:ln w="0">
            <a:noFill/>
          </a:ln>
        </p:spPr>
      </p:pic>
      <p:sp>
        <p:nvSpPr>
          <p:cNvPr id="370" name="Objaśnienie owalne 4"/>
          <p:cNvSpPr/>
          <p:nvPr/>
        </p:nvSpPr>
        <p:spPr>
          <a:xfrm>
            <a:off x="4597560" y="692280"/>
            <a:ext cx="2339640" cy="1224000"/>
          </a:xfrm>
          <a:prstGeom prst="wedgeEllipseCallout">
            <a:avLst>
              <a:gd name="adj1" fmla="val -61134"/>
              <a:gd name="adj2" fmla="val 6041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Chodźmy na huśtawk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hichot 1.wav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72" name="j0214098.wav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73" name="MS900082189[1].mid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74" name="MS900044820[1].mid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1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6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 repeatCount="1000">
                                  <p:stCondLst>
                                    <p:cond delay="2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C -0.00104 0.00417 -0.00208 0.00834 -0.00312 0.0125 C -0.00347 0.01389 -0.00416 0.01667 -0.00416 0.01667 C -0.00364 0.04954 -0.00382 0.08079 0.00209 0.1125 C 0.00365 0.12084 0.00486 0.13149 0.00938 0.1375 C 0.01528 0.16088 0.03212 0.17616 0.04584 0.19028 C 0.0507 0.19537 0.05347 0.19954 0.05938 0.20139 C 0.07813 0.22014 0.09931 0.22732 0.12188 0.23334 C 0.12327 0.2338 0.12465 0.2345 0.12604 0.23473 C 0.13056 0.23542 0.13507 0.23542 0.13959 0.23612 C 0.14514 0.23681 0.15625 0.23889 0.15625 0.23889 C 0.17813 0.23797 0.1974 0.23426 0.21875 0.23195 C 0.22813 0.23102 0.24688 0.22917 0.24688 0.22917 C 0.25712 0.22454 0.27066 0.22315 0.28125 0.22223 C 0.29497 0.2176 0.30886 0.2132 0.32292 0.21112 C 0.33073 0.20764 0.33889 0.20602 0.34688 0.20278 C 0.35608 0.19908 0.36459 0.19352 0.37396 0.19167 C 0.37934 0.18936 0.38403 0.18612 0.38959 0.18473 C 0.39688 0.17825 0.38768 0.18588 0.39792 0.17917 C 0.40156 0.17662 0.40174 0.17477 0.40521 0.17084 C 0.40868 0.16667 0.41337 0.16412 0.41667 0.15973 C 0.42257 0.15186 0.42465 0.14075 0.43021 0.13334 C 0.4316 0.12616 0.43368 0.11945 0.43542 0.1125 C 0.4382 0.10139 0.43854 0.09028 0.44063 0.07917 C 0.44236 0.0544 0.44236 0.06204 0.44063 0.02639 C 0.43976 0.00764 0.43281 -0.02384 0.42709 -0.04166 C 0.42465 -0.0493 0.42101 -0.06064 0.41563 -0.06527 C 0.41181 -0.08055 0.39202 -0.08263 0.38229 -0.08472 C 0.37986 -0.08518 0.37743 -0.08703 0.375 -0.0875 C 0.36945 -0.08865 0.35834 -0.09027 0.35834 -0.09027 C 0.33941 -0.08912 0.3217 -0.08819 0.30313 -0.08333 C 0.29913 -0.08217 0.29566 -0.07916 0.29167 -0.07777 C 0.2882 -0.07476 0.28507 -0.07384 0.28125 -0.07222 C 0.27639 -0.06736 0.27049 -0.06226 0.26459 -0.05972 C 0.26163 -0.05578 0.25972 -0.05185 0.25625 -0.04861 C 0.25243 -0.04097 0.24618 -0.03495 0.24167 -0.02777 C 0.23524 -0.01782 0.22986 -0.00648 0.22292 0.00278 C 0.22136 0.00903 0.21719 0.01459 0.21354 0.01945 C 0.21077 0.03056 0.21493 0.0176 0.20938 0.025 C 0.2059 0.02963 0.20365 0.03681 0.2 0.04167 C 0.19774 0.05047 0.2007 0.04075 0.19479 0.05139 C 0.19393 0.05301 0.19358 0.05533 0.19271 0.05695 C 0.18733 0.06644 0.18021 0.075 0.17396 0.08334 C 0.16615 0.09375 0.175 0.08519 0.16771 0.09167 C 0.16094 0.10533 0.14531 0.11575 0.13438 0.12223 C 0.12934 0.12524 0.12865 0.12454 0.12396 0.12639 C 0.12188 0.12732 0.11979 0.12825 0.11771 0.12917 C 0.11667 0.12963 0.11459 0.13056 0.11459 0.13056 C 0.10139 0.12963 0.09722 0.1301 0.0875 0.12362 C 0.08646 0.12292 0.08542 0.12292 0.08438 0.12223 C 0.08212 0.12061 0.08021 0.11852 0.07813 0.11667 C 0.07709 0.11575 0.075 0.11389 0.075 0.11389 C 0.07361 0.11112 0.07118 0.10973 0.06979 0.10695 C 0.06771 0.10301 0.06649 0.09144 0.06563 0.08612 C 0.06597 0.07778 0.06615 0.06945 0.06667 0.06112 C 0.06702 0.05556 0.07101 0.04931 0.07292 0.04445 C 0.07726 0.03264 0.08281 0.02061 0.08646 0.00834 C 0.08906 -0.000229999999999999 0.09097 -0.01041 0.09479 -0.01805 C 0.09722 -0.03125 0.09705 -0.028 0.09479 -0.05138 C 0.09462 -0.05347 0.09045 -0.05879 0.08959 -0.05972 C 0.08768 -0.0618 0.08334 -0.06527 0.08334 -0.06527 C 0.07431 -0.06226 0.06528 -0.06064 0.05625 -0.05833 C 0.04653 -0.05879 0.03681 -0.05902 0.02709 -0.05972 C 0.02066 -0.06018 0.01476 -0.06597 0.00834 -0.06666 C 0.00486 -0.06713 0.00139 -0.06666 -0.00208 -0.06666 E">
                                      <p:cBhvr>
                                        <p:cTn id="14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100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C 0.00173 -0.01203 0.00347 -0.02407 0.00521 -0.03611 C 0.00573 -0.03981 0.00729 -0.04722 0.00729 -0.04722 C 0.00851 -0.06504 0.00989 -0.08264 0.0125 -0.1 C 0.01337 -0.125 0.01163 -0.15347 0.01771 -0.17777 C 0.01823 -0.18333 0.01979 -0.18889 0.01979 -0.19444 C 0.01979 -0.23449 0.01649 -0.30231 -0.01875 -0.31805 C -0.02413 -0.32523 -0.02639 -0.32129 -0.03229 -0.32639 C -0.03785 -0.33125 -0.04549 -0.33287 -0.05208 -0.33472 C -0.06007 -0.33426 -0.06806 -0.33426 -0.07604 -0.33333 C -0.08264 -0.33264 -0.08802 -0.32685 -0.09375 -0.32361 C -0.10226 -0.31875 -0.10851 -0.31041 -0.11563 -0.30277 C -0.12188 -0.29606 -0.12865 -0.28958 -0.13438 -0.28194 C -0.14132 -0.27268 -0.13125 -0.2824 -0.13958 -0.275 C -0.14219 -0.2699 -0.14618 -0.26458 -0.15 -0.26111 C -0.15347 -0.25393 -0.1592 -0.24791 -0.16458 -0.24305 C -0.17153 -0.22916 -0.18212 -0.21875 -0.18958 -0.20555 C -0.19566 -0.1949 -0.20208 -0.18379 -0.21042 -0.17639 C -0.21424 -0.16875 -0.2217 -0.15694 -0.22813 -0.15277 C -0.23281 -0.14352 -0.23837 -0.13634 -0.24479 -0.12916 C -0.2507 -0.12268 -0.24497 -0.13032 -0.25208 -0.12361 C -0.25868 -0.11736 -0.25139 -0.12083 -0.25938 -0.11805 C -0.26754 -0.11088 -0.27656 -0.10393 -0.28542 -0.09861 C -0.29653 -0.09189 -0.28768 -0.0993 -0.29479 -0.09305 C -0.32257 -0.09398 -0.34948 -0.09676 -0.37708 -0.09861 C -0.38837 -0.10046 -0.39393 -0.10115 -0.40625 -0.1 C -0.41458 -0.09722 -0.42118 -0.08958 -0.42917 -0.08611 C -0.43021 -0.08472 -0.43143 -0.08356 -0.43229 -0.08194 C -0.43386 -0.07939 -0.43646 -0.07361 -0.43646 -0.07361 C -0.43993 -0.05532 -0.4349 -0.03009 -0.42292 -0.01805 C -0.41268 -0.00787 -0.42396 -0.02176 -0.41563 -0.0125 C -0.40816 -0.00416 -0.39809 0.0051 -0.38854 0.00834 C -0.3809 0.01505 -0.37136 0.0169 -0.3625 0.01945 C -0.34115 0.02547 -0.32101 0.02755 -0.29896 0.02917 C -0.24167 0.03334 -0.18455 0.04051 -0.12708 0.04306 C -0.10521 0.04537 -0.08351 0.04584 -0.06146 0.04584 L -0.04167 0.0625 E">
                                      <p:cBhvr>
                                        <p:cTn id="150" dur="3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0 0 C 0.00069 0.01898 0.00017 0.04097 0.01354 0.05278 C 0.02031 0.0662 0.04236 0.07732 0.05416 0.07917 C 0.06146 0.08033 0.07604 0.08195 0.07604 0.08195 C 0.10746 0.08102 0.1342 0.07801 0.16458 0.075 C 0.17569 0.07199 0.1868 0.06968 0.19791 0.06667 C 0.20277 0.0625 0.20816 0.0625 0.21354 0.05972 C 0.21788 0.05764 0.22048 0.0544 0.225 0.05278 C 0.22691 0.05116 0.22934 0.05023 0.23125 0.04861 C 0.23906 0.04167 0.23003 0.0463 0.2375 0.04306 C 0.24062 0.03704 0.24774 0.03148 0.25312 0.02917 C 0.26458 0.01389 0.25086 0.03033 0.26146 0.02222 C 0.2658 0.01898 0.26927 0.01273 0.27396 0.00972 C 0.28073 0.00533 0.28715 0.00046 0.29375 -0.00417 C 0.30364 -0.01111 0.31128 -0.01898 0.32187 -0.02361 C 0.32586 -0.02778 0.32951 -0.02986 0.33437 -0.03194 C 0.34218 -0.03981 0.33455 -0.03333 0.34479 -0.0375 C 0.35191 -0.04028 0.35937 -0.04398 0.36649 -0.04722 C 0.39236 -0.05856 0.41979 -0.06574 0.4467 -0.06944 C 0.45069 -0.0713 0.45416 -0.07407 0.45816 -0.075 C 0.46198 -0.07592 0.46892 -0.07639 0.47291 -0.07778 C 0.48507 -0.08194 0.49705 -0.08866 0.5092 -0.09167 C 0.51892 -0.09398 0.52882 -0.09583 0.53854 -0.09722 C 0.56389 -0.10856 0.61944 -0.10602 0.64479 -0.10694 C 0.65347 -0.10856 0.66146 -0.11157 0.66979 -0.11528 C 0.67361 -0.1169 0.67621 -0.12176 0.68021 -0.12361 C 0.68628 -0.13565 0.68993 -0.14676 0.69166 -0.16111 C 0.69097 -0.18032 0.69027 -0.22268 0.67812 -0.23889 C 0.67691 -0.24352 0.67291 -0.25139 0.67291 -0.25139 C 0.6717 -0.25833 0.66875 -0.26389 0.66771 -0.27083 C 0.66632 -0.28055 0.6651 -0.29028 0.66354 -0.3 C 0.65902 -0.32755 0.65902 -0.3662 0.6375 -0.38055 C 0.63264 -0.3838 0.63073 -0.38727 0.625 -0.38889 C 0.62048 -0.39282 0.61562 -0.39305 0.61041 -0.39444 C 0.60347 -0.39398 0.59652 -0.39398 0.58958 -0.39305 C 0.5868 -0.39259 0.58125 -0.39028 0.58125 -0.39028 C 0.5776 -0.38542 0.57482 -0.38356 0.56979 -0.38194 C 0.56545 -0.37616 0.55868 -0.37454 0.55312 -0.37083 C 0.54427 -0.36481 0.53698 -0.35602 0.52812 -0.35 C 0.52239 -0.33866 0.51527 -0.32755 0.50816 -0.31805 C 0.50347 -0.31157 0.5085 -0.31643 0.50521 -0.30972 C 0.50434 -0.3081 0.50277 -0.30717 0.50191 -0.30555 C 0.49878 -0.29977 0.49722 -0.29467 0.49461 -0.28889 C 0.49184 -0.28217 0.48767 -0.27569 0.4842 -0.26944 C 0.48125 -0.25741 0.47048 -0.24236 0.46441 -0.23194 C 0.46111 -0.22592 0.45816 -0.21944 0.45416 -0.21389 C 0.45104 -0.20995 0.44774 -0.20671 0.44461 -0.20278 C 0.44027 -0.19699 0.43333 -0.19375 0.42795 -0.19028 C 0.41753 -0.1831 0.40711 -0.17592 0.39566 -0.17083 C 0.39132 -0.16898 0.3868 -0.16898 0.38229 -0.16805 C 0.37135 -0.16852 0.36059 -0.16829 0.35 -0.16944 C 0.34253 -0.17014 0.33455 -0.17917 0.32812 -0.18333 C 0.32291 -0.1868 0.31493 -0.18657 0.30937 -0.1875 C 0.29132 -0.19352 0.27534 -0.18657 0.25833 -0.18194 C 0.24271 -0.17153 0.22118 -0.15671 0.21041 -0.1375 C 0.20573 -0.1294 0.20364 -0.12361 0.2 -0.11528 C 0.19757 -0.10972 0.19357 -0.10509 0.19062 -0.1 C 0.18906 -0.09375 0.18541 -0.08819 0.18229 -0.08333 C 0.17586 -0.07315 0.171 -0.0618 0.1625 -0.05417 C 0.15729 -0.04352 0.14618 -0.04282 0.13854 -0.03611 C 0.12586 -0.03727 0.11527 -0.03981 0.10312 -0.04305 C 0.09826 -0.0463 0.09357 -0.04653 0.08854 -0.04861 C 0.07205 -0.05509 0.05937 -0.05694 0.04166 -0.05694 L 0.02916 -0.05833 E">
                                      <p:cBhvr>
                                        <p:cTn id="15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 repeatCount="1000">
                                  <p:stCondLst>
                                    <p:cond delay="10600"/>
                                  </p:stCondLst>
                                  <p:childTnLst>
                                    <p:animMotion origin="layout" path="M 0 0 C -0.00399 0.00811 -0.00955 0.01273 -0.01458 0.01945 C -0.01788 0.02385 -0.02066 0.02894 -0.02396 0.03334 C -0.03073 0.04236 -0.02327 0.03519 -0.03021 0.04584 C -0.03785 0.05764 -0.04827 0.06644 -0.05625 0.07778 C -0.0658 0.09121 -0.07257 0.10648 -0.08125 0.12084 C -0.08386 0.13125 -0.08629 0.1419 -0.09063 0.15139 C -0.09184 0.15834 -0.09288 0.16528 -0.09375 0.17223 C -0.09288 0.19468 -0.09393 0.21991 -0.08333 0.23889 C -0.08143 0.24676 -0.07743 0.25162 -0.07292 0.25695 C -0.05504 0.27732 -0.03333 0.28033 -0.01042 0.28195 C 0.01875 0.28102 0.04618 0.27848 0.075 0.27639 C 0.0868 0.27547 0.11042 0.27361 0.11042 0.27361 C 0.1375 0.27431 0.16042 0.27593 0.18646 0.27778 C 0.20052 0.27986 0.21406 0.28542 0.22812 0.2875 C 0.2368 0.29028 0.24548 0.29074 0.25417 0.29306 C 0.26076 0.29491 0.26719 0.29723 0.27396 0.29861 C 0.28316 0.3007 0.29062 0.30556 0.3 0.30695 C 0.30833 0.31065 0.31614 0.31273 0.325 0.31389 C 0.33403 0.31783 0.34253 0.31829 0.35208 0.31945 C 0.41493 0.34746 0.48472 0.3213 0.55104 0.32084 C 0.57917 0.31806 0.60798 0.31551 0.63542 0.30695 C 0.64097 0.30533 0.64687 0.30533 0.65208 0.30278 C 0.67014 0.29375 0.68663 0.2794 0.70208 0.26389 C 0.70642 0.25949 0.71128 0.25579 0.71458 0.25 C 0.71684 0.24607 0.71857 0.24144 0.72083 0.2375 C 0.72257 0.22801 0.72743 0.21783 0.73021 0.20834 C 0.73576 0.18866 0.73594 0.16505 0.73854 0.14445 C 0.7408 0.09491 0.74566 0.02084 0.71875 -0.02222 C 0.71614 -0.02639 0.71441 -0.03217 0.71146 -0.03611 C 0.70903 -0.03935 0.70521 -0.04027 0.70208 -0.04166 C 0.69948 -0.04282 0.69739 -0.04583 0.69479 -0.04722 C 0.69062 -0.0493 0.68559 -0.05046 0.68125 -0.05139 C 0.65746 -0.05046 0.64028 -0.05162 0.61875 -0.04444 C 0.61337 -0.04259 0.60781 -0.03958 0.60312 -0.03611 C 0.60087 -0.03449 0.59896 -0.0324 0.59687 -0.03055 C 0.59583 -0.02963 0.59375 -0.02777 0.59375 -0.02777 C 0.59167 -0.01921 0.58542 -0.01527 0.58333 -0.00694 C 0.58142 0.00093 0.57847 0.00648 0.57604 0.01389 C 0.57482 0.01783 0.57153 0.03241 0.56875 0.03473 C 0.5618 0.04051 0.54566 0.04074 0.53958 0.04167 C 0.5368 0.04213 0.53125 0.04306 0.53125 0.04306 C 0.52482 0.04584 0.51614 0.0463 0.51042 0.05139 C 0.50729 0.05417 0.50417 0.05695 0.50104 0.05973 C 0.5 0.06065 0.49792 0.0625 0.49792 0.0625 C 0.49357 0.0713 0.48264 0.08588 0.48021 0.09584 C 0.4783 0.10371 0.47535 0.11065 0.47292 0.11806 C 0.46788 0.13287 0.47344 0.12107 0.46875 0.13056 C 0.46701 0.14028 0.46232 0.14792 0.45937 0.15695 C 0.45642 0.16574 0.45399 0.17523 0.44896 0.18195 C 0.44739 0.1882 0.44357 0.19375 0.43958 0.19723 C 0.43177 0.21273 0.41007 0.22037 0.39687 0.22084 C 0.36944 0.22176 0.34201 0.22176 0.31458 0.22223 C 0.29653 0.23033 0.275 0.23449 0.25625 0.23611 C 0.22482 0.23496 0.20104 0.23357 0.16979 0.23473 C 0.14982 0.23843 0.13229 0.23936 0.11146 0.24028 C -0.04566 0.2382 0.04705 0.24398 -0.00208 0.23473 C -0.00781 0.22963 -0.01424 0.22523 -0.01875 0.21806 C -0.02136 0.21366 -0.02708 0.20556 -0.02708 0.20556 C -0.02934 0.19653 -0.0382 0.19121 -0.04167 0.18195 C -0.04427 0.17477 -0.0474 0.16829 -0.05 0.16111 C -0.05208 0.15556 -0.05191 0.14885 -0.05417 0.14306 C -0.05556 0.12593 -0.05625 0.12454 -0.05417 0.10278 C -0.05382 0.09954 -0.05104 0.09584 -0.05 0.09306 C -0.04653 0.0838 -0.04149 0.07338 -0.03542 0.06667 C -0.02847 0.0588 -0.03594 0.07153 -0.02396 0.05556 C -0.0191 0.04908 -0.0217 0.05093 -0.01667 0.04861 C -0.01094 0.04098 -0.00573 0.03264 0 0.025 C 0.00347 0.01135 0.00364 0.01482 0 0 Z">
                                      <p:cBhvr>
                                        <p:cTn id="154" dur="325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1">
                                  <p:stCondLst>
                                    <p:cond delay="1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56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mediacall" presetID="1">
                                  <p:stCondLst>
                                    <p:cond delay="1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745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6">
                                  <p:stCondLst>
                                    <p:cond delay="15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6" repeatCount="1000">
                                  <p:stCondLst>
                                    <p:cond delay="16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6" repeatCount="1000">
                                  <p:stCondLst>
                                    <p:cond delay="16250"/>
                                  </p:stCondLst>
                                  <p:iterate type="lt">
                                    <p:tmAbs val="42.5"/>
                                  </p:iterate>
                                  <p:childTnLst>
                                    <p:animScale>
                                      <p:cBhvr>
                                        <p:cTn id="173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4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5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6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Huśtawki są w równowadz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2771640" y="4221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fdf7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7164360" y="4869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ee202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 - 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419640" y="1916280"/>
            <a:ext cx="1368360" cy="720720"/>
          </a:xfrm>
          <a:prstGeom prst="roundRect">
            <a:avLst>
              <a:gd name="adj" fmla="val 16667"/>
            </a:avLst>
          </a:prstGeom>
          <a:solidFill>
            <a:srgbClr val="7093f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539640" y="4221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5 (x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653080" y="191628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5005440" y="4869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f7b6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1909800" y="5086440"/>
            <a:ext cx="865080" cy="1008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468360" y="4941720"/>
            <a:ext cx="3708360" cy="144720"/>
          </a:xfrm>
          <a:prstGeom prst="flowChartTerminator">
            <a:avLst/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3"/>
          <p:cNvSpPr/>
          <p:nvPr/>
        </p:nvSpPr>
        <p:spPr>
          <a:xfrm>
            <a:off x="4861080" y="2781360"/>
            <a:ext cx="865080" cy="1008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4"/>
          <p:cNvSpPr/>
          <p:nvPr/>
        </p:nvSpPr>
        <p:spPr>
          <a:xfrm>
            <a:off x="3419640" y="2638440"/>
            <a:ext cx="3673440" cy="144360"/>
          </a:xfrm>
          <a:prstGeom prst="flowChartTerminator">
            <a:avLst/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5"/>
          <p:cNvSpPr/>
          <p:nvPr/>
        </p:nvSpPr>
        <p:spPr>
          <a:xfrm>
            <a:off x="6372360" y="5732640"/>
            <a:ext cx="865080" cy="1008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6"/>
          <p:cNvSpPr/>
          <p:nvPr/>
        </p:nvSpPr>
        <p:spPr>
          <a:xfrm>
            <a:off x="4930920" y="5587920"/>
            <a:ext cx="3708360" cy="144720"/>
          </a:xfrm>
          <a:prstGeom prst="flowChartTerminator">
            <a:avLst/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108000" y="1700280"/>
            <a:ext cx="2663640" cy="1511280"/>
          </a:xfrm>
          <a:prstGeom prst="wedgeEllipseCallout">
            <a:avLst>
              <a:gd name="adj1" fmla="val 31467"/>
              <a:gd name="adj2" fmla="val 103152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wyrażeń algebraicznych stałyśmy się równani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212580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005440" y="198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518160" y="4940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"/>
          <p:cNvSpPr/>
          <p:nvPr/>
        </p:nvSpPr>
        <p:spPr>
          <a:xfrm>
            <a:off x="6659640" y="2852640"/>
            <a:ext cx="2195280" cy="1582920"/>
          </a:xfrm>
          <a:prstGeom prst="wedgeEllipseCallout">
            <a:avLst>
              <a:gd name="adj1" fmla="val -42768"/>
              <a:gd name="adj2" fmla="val 71162"/>
            </a:avLst>
          </a:prstGeom>
          <a:solidFill>
            <a:srgbClr val="f7b6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wyrażeń algebraicznych stałyśmy się równaniam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MS900044820[1].mid" descr=""/>
          <p:cNvPicPr/>
          <p:nvPr/>
        </p:nvPicPr>
        <p:blipFill>
          <a:blip r:embed="rId1"/>
          <a:stretch/>
        </p:blipFill>
        <p:spPr>
          <a:xfrm>
            <a:off x="8334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82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9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6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2000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animClr clrSpc="rgb">
                                      <p:cBhvr>
                                        <p:cTn id="256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set>
                                      <p:cBhvr>
                                        <p:cTn id="257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6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2" repeatCount="2000">
                                  <p:stCondLst>
                                    <p:cond delay="6500"/>
                                  </p:stCondLst>
                                  <p:childTnLst>
                                    <p:animClr clrSpc="rgb">
                                      <p:cBhvr>
                                        <p:cTn id="296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set>
                                      <p:cBhvr>
                                        <p:cTn id="298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6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2" repeatCount="2000">
                                  <p:stCondLst>
                                    <p:cond delay="8900"/>
                                  </p:stCondLst>
                                  <p:childTnLst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37">
                                  <p:stCondLst>
                                    <p:cond delay="1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37">
                                  <p:stCondLst>
                                    <p:cond delay="1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37">
                                  <p:stCondLst>
                                    <p:cond delay="1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17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Tw Cen MT"/>
              </a:rPr>
              <a:t>Jeżeli dwa wyrażenia algebraiczne połączymy znakiem = to otrzymamy równanie.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108000" y="1700280"/>
            <a:ext cx="2663640" cy="1511280"/>
          </a:xfrm>
          <a:prstGeom prst="wedgeEllipseCallout">
            <a:avLst>
              <a:gd name="adj1" fmla="val 67222"/>
              <a:gd name="adj2" fmla="val -28569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wnanie może mieć jedną niewiadom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9"/>
          <p:cNvSpPr/>
          <p:nvPr/>
        </p:nvSpPr>
        <p:spPr>
          <a:xfrm>
            <a:off x="6588000" y="2565360"/>
            <a:ext cx="2195640" cy="1152720"/>
          </a:xfrm>
          <a:prstGeom prst="wedgeEllipseCallout">
            <a:avLst>
              <a:gd name="adj1" fmla="val -78342"/>
              <a:gd name="adj2" fmla="val -9226"/>
            </a:avLst>
          </a:prstGeom>
          <a:solidFill>
            <a:srgbClr val="f7b6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wie niewiad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0"/>
              <p:cNvSpPr txBox="1"/>
              <p:nvPr/>
            </p:nvSpPr>
            <p:spPr>
              <a:xfrm>
                <a:off x="179280" y="4221000"/>
                <a:ext cx="410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23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2"/>
              <p:cNvSpPr txBox="1"/>
              <p:nvPr/>
            </p:nvSpPr>
            <p:spPr>
              <a:xfrm>
                <a:off x="3708360" y="1628640"/>
                <a:ext cx="3168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4"/>
              <p:cNvSpPr txBox="1"/>
              <p:nvPr/>
            </p:nvSpPr>
            <p:spPr>
              <a:xfrm>
                <a:off x="2627280" y="2637000"/>
                <a:ext cx="20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6"/>
              <p:cNvSpPr txBox="1"/>
              <p:nvPr/>
            </p:nvSpPr>
            <p:spPr>
              <a:xfrm>
                <a:off x="2916360" y="3500280"/>
                <a:ext cx="317808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8"/>
              <p:cNvSpPr txBox="1"/>
              <p:nvPr/>
            </p:nvSpPr>
            <p:spPr>
              <a:xfrm>
                <a:off x="1187280" y="5373720"/>
                <a:ext cx="3168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3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0"/>
              <p:cNvSpPr txBox="1"/>
              <p:nvPr/>
            </p:nvSpPr>
            <p:spPr>
              <a:xfrm>
                <a:off x="4716360" y="4653000"/>
                <a:ext cx="3745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utoShape 32"/>
          <p:cNvSpPr/>
          <p:nvPr/>
        </p:nvSpPr>
        <p:spPr>
          <a:xfrm>
            <a:off x="6659640" y="5516640"/>
            <a:ext cx="2305080" cy="1152360"/>
          </a:xfrm>
          <a:prstGeom prst="wedgeEllipseCallout">
            <a:avLst>
              <a:gd name="adj1" fmla="val -62949"/>
              <a:gd name="adj2" fmla="val 57712"/>
            </a:avLst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więcej niewiadom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3"/>
          <p:cNvSpPr/>
          <p:nvPr/>
        </p:nvSpPr>
        <p:spPr>
          <a:xfrm>
            <a:off x="4067280" y="1700280"/>
            <a:ext cx="504720" cy="647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5003640" y="4653000"/>
            <a:ext cx="505080" cy="647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6"/>
          <p:cNvSpPr/>
          <p:nvPr/>
        </p:nvSpPr>
        <p:spPr>
          <a:xfrm>
            <a:off x="7740720" y="4653000"/>
            <a:ext cx="504720" cy="647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7"/>
          <p:cNvSpPr/>
          <p:nvPr/>
        </p:nvSpPr>
        <p:spPr>
          <a:xfrm>
            <a:off x="3419640" y="2637000"/>
            <a:ext cx="504720" cy="64764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8"/>
          <p:cNvSpPr/>
          <p:nvPr/>
        </p:nvSpPr>
        <p:spPr>
          <a:xfrm>
            <a:off x="4140360" y="2637000"/>
            <a:ext cx="504720" cy="64764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9"/>
          <p:cNvSpPr/>
          <p:nvPr/>
        </p:nvSpPr>
        <p:spPr>
          <a:xfrm>
            <a:off x="3276720" y="3500280"/>
            <a:ext cx="504720" cy="64800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4284720" y="3500280"/>
            <a:ext cx="504720" cy="64800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775f55"/>
                </a:solidFill>
                <a:latin typeface="Tw Cen MT"/>
              </a:rPr>
              <a:t>Równania pierwszego stopnia </a:t>
            </a:r>
            <a:br>
              <a:rPr sz="2900"/>
            </a:br>
            <a:r>
              <a:rPr b="0" lang="pl-PL" sz="2900" spc="-1" strike="noStrike">
                <a:solidFill>
                  <a:srgbClr val="775f55"/>
                </a:solidFill>
                <a:latin typeface="Tw Cen MT"/>
              </a:rPr>
              <a:t>z jedną niewiadomą 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108000" y="1700280"/>
            <a:ext cx="2663640" cy="1511280"/>
          </a:xfrm>
          <a:prstGeom prst="wedgeEllipseCallout">
            <a:avLst>
              <a:gd name="adj1" fmla="val -46125"/>
              <a:gd name="adj2" fmla="val 102523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 są równania pierwszego stopnia z jedna niewiado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"/>
              <p:cNvSpPr txBox="1"/>
              <p:nvPr/>
            </p:nvSpPr>
            <p:spPr>
              <a:xfrm>
                <a:off x="611280" y="4384800"/>
                <a:ext cx="4103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4140360" y="1792440"/>
                <a:ext cx="31683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3059280" y="2800440"/>
                <a:ext cx="20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3348000" y="3664080"/>
                <a:ext cx="3178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8"/>
              <p:cNvSpPr txBox="1"/>
              <p:nvPr/>
            </p:nvSpPr>
            <p:spPr>
              <a:xfrm>
                <a:off x="1619280" y="5537160"/>
                <a:ext cx="3168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9"/>
              <p:cNvSpPr txBox="1"/>
              <p:nvPr/>
            </p:nvSpPr>
            <p:spPr>
              <a:xfrm>
                <a:off x="5148360" y="4816440"/>
                <a:ext cx="3744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7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2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Ćwiczenia dla uczniów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AutoShape 15"/>
          <p:cNvSpPr/>
          <p:nvPr/>
        </p:nvSpPr>
        <p:spPr>
          <a:xfrm>
            <a:off x="0" y="1700280"/>
            <a:ext cx="2987640" cy="1511280"/>
          </a:xfrm>
          <a:prstGeom prst="wedgeEllipseCallout">
            <a:avLst>
              <a:gd name="adj1" fmla="val -42935"/>
              <a:gd name="adj2" fmla="val 102523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isz każdą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informa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staci rów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3132000" y="2070000"/>
            <a:ext cx="58327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żnica liczb -4 i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równa się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uma liczb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liczby 4 razy większej równa się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siążka kosztował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ł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 pięć takich książek zapłacono 185 z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 bok prostokąta ma długość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drugi bok jest 3 razy dłuższy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e prostokąta równa się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rek ma 7 lat, tata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razy starszy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zem ojciec z synem mają 36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75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11:56:23Z</dcterms:created>
  <dc:creator>Ania</dc:creator>
  <dc:description/>
  <dc:language>en-US</dc:language>
  <cp:lastModifiedBy>Ania</cp:lastModifiedBy>
  <dcterms:modified xsi:type="dcterms:W3CDTF">2013-08-26T08:31:13Z</dcterms:modified>
  <cp:revision>70</cp:revision>
  <dc:subject/>
  <dc:title>Liczby i cyfry</dc:title>
</cp:coreProperties>
</file>